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F7311-5322-440D-8EC7-6ADA47B01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621A-F82E-4FA1-9A61-2FA82CE78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773ED-D12B-4575-82FA-05AE33F05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2D2A-C42F-43E7-85FE-911E6AE6F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23841-71F9-4AD9-B99B-87E019AB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08D2D-2496-48B3-864B-1FC30B63A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5517B-A4BC-4C17-9E39-0D1E19A94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72CE4-7CF5-4BAB-90B9-7F43D6FBB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AB10-7270-48C4-A899-49D436D2F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3B293-1B50-4BA6-853E-9B9F537D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282E-1220-48D9-9333-D16A1F19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E7A51-693B-4EBF-887C-7FBF70703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3761-BB2C-4B65-B56A-B8D01A71A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5029200"/>
            <a:ext cx="51818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esiunea iunie - iulie</a:t>
            </a:r>
            <a:endParaRPr b="0" lang="en-US" sz="1800" spc="1" strike="noStrike">
              <a:ln w="9360">
                <a:solidFill>
                  <a:srgbClr val="000000"/>
                </a:solidFill>
                <a:miter/>
              </a:ln>
              <a:solidFill>
                <a:srgbClr val="000000"/>
              </a:solidFill>
              <a:latin typeface="Arial Black"/>
              <a:ea typeface="Arial Black"/>
            </a:endParaRPr>
          </a:p>
        </p:txBody>
      </p:sp>
    </p:spTree>
  </p:cSld>
  <p:transition spd="med" advTm="5000">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transition spd="med" advTm="5000">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transition spd="med" advTm="5000">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Elev</cp:lastModifiedBy>
  <dcterms:modified xsi:type="dcterms:W3CDTF">2010-06-20T11:42:27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